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D717-16DD-4D93-B947-707EBF3404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37C2E-9121-499F-B663-A2C25932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E7A5-D119-48F9-8F0D-36350145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5920E-8024-4002-AA8B-D06E45CE35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F8CF2-8B58-43EF-A2DB-7E84DCC218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96963-BB76-444E-BCE2-8A4C8C61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95435-E4E9-4830-B7FF-F5F51EC2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A10A-AC77-4A44-9AF4-4561C64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4DAD7-C176-461D-AB15-AE4CD9C6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57A8B-5636-4844-A637-ED443DC3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E4217-2CDC-444B-8B20-871C48B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B3AC-B304-46A6-ADB5-12DAC9EE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47E43-CECC-4EC4-BF09-34DFE1EB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3F754-C531-4276-8B17-FF1A236E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916A2-13D5-489A-A002-9041EC71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37F3C-CF91-47C2-9C8B-DE6441BB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15C9F-2D9D-490E-9A40-3BA12C1E8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9715-9267-4CC1-902D-629B0E7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E9FEF-65B9-4B4A-85DF-3379C95E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1215-3F87-44F6-82E5-87C383B2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7CC1-EB62-4340-AC1C-FFEE20D3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5469-7813-4E62-AA85-119F7B87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14F5-AF77-4F12-A181-1333AF9B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586C-964C-43C0-85DE-60E08D5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A7FB6-41E6-4901-8FFB-199E5EADBCC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09800"/>
            <a:ext cx="8228160" cy="19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3280"/>
            <a:ext cx="21319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3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3280"/>
            <a:ext cx="21322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FB05BE-1843-4F4F-9ADD-651E77BE5308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cmko.org/" TargetMode="External"/><Relationship Id="rId3" Type="http://schemas.openxmlformats.org/officeDocument/2006/relationships/hyperlink" Target="mailto:rcmkoege@gmail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184464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Организация подготовки экспертов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предметных комиссий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Республики Татарстан в 2014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68720" y="5400720"/>
            <a:ext cx="403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гнашева Юлия Геннадье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тодического обеспечения  ГБУ «РЦМ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зань 2014 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-47952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Обучающие семинары экспертов ПК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«Согласование подходов к оцениванию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 экзаменационных работ»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24-28 марта 2014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724360" y="4508640"/>
            <a:ext cx="2916360" cy="1639800"/>
            <a:chOff x="5724360" y="4508640"/>
            <a:chExt cx="2916360" cy="163980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5724360" y="4508640"/>
              <a:ext cx="291636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724360" y="4508640"/>
              <a:ext cx="2916360" cy="16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1773360"/>
            <a:ext cx="3328920" cy="1871640"/>
            <a:chOff x="324000" y="1773360"/>
            <a:chExt cx="3328920" cy="187164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324000" y="1773360"/>
              <a:ext cx="3328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4000" y="1773360"/>
              <a:ext cx="332892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916360" y="3284640"/>
            <a:ext cx="3327120" cy="1873080"/>
            <a:chOff x="2916360" y="3284640"/>
            <a:chExt cx="3327120" cy="18730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916360" y="3284640"/>
              <a:ext cx="332712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916360" y="3284640"/>
              <a:ext cx="3327120" cy="18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тяжении периода работы ПК с момента получения критериев оценивания развёрнутых ответов из РЦОИ до окончания проверки развёрнутых ответов участников ЕГЭ все помещения, в которых работают ПК, обеспечены системой непрерывного видеонаблюдения и видео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95640" y="4539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едение итоговых заче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868400"/>
            <a:ext cx="691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тбора экспертов-стажеров в РП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дтверждения экспертной высшей/первой катег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подтверждения статуса «Эксперт ЕГЭ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19560" y="3622680"/>
            <a:ext cx="3995640" cy="2693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онные испытания экспертов 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лификационное испытание для присвоения статуса эксперту проводится ежегод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ист, не прошедший квалификационные испытания в текущем году, не допускается к включению в состав ПК, а также не может принимать участие в проверке развёрнутых ответов участников ЕГЭ в текущем году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ожение о ПК РТ, приложение к приказу МОиН РТ от 24.05.2014г. №1557/1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кончании проверки заданий с развёрнутым ответом председатель ПК получает информацию об экспертах, показавших наибольшее количество расхождений в результатах оценивания. В следующем году на проверку ЭМ данные экспер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опускаю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33336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нирование работы экспертизы ГИ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93840" y="1846440"/>
          <a:ext cx="8459280" cy="4762080"/>
        </p:xfrm>
        <a:graphic>
          <a:graphicData uri="http://schemas.openxmlformats.org/drawingml/2006/table">
            <a:tbl>
              <a:tblPr/>
              <a:tblGrid>
                <a:gridCol w="4248720"/>
                <a:gridCol w="4210560"/>
              </a:tblGrid>
              <a:tr h="90000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Наименование предме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Срок прове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021320">
                <a:tc gridSpan="2"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ПЕРИОД  ЭКЗАМЕНОВ основного периода 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с 26 мая по 19 июня 2014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440"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бязательные предме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ого этапа ЕГЭ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русский язык, математи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поздне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е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календарных дней после проведения соответствующего экзамен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тальные учебные предме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сновного этапа ЕГЭ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поздне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етыре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календарных дней после проведения соответствующего экзамен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8840">
                <a:tc gridSpan="2">
                  <a:txBody>
                    <a:bodyPr lIns="0" rIns="0" tIns="1764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ПЕРИОД  ЭКЗАМЕНОВ дополнительного период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с 7 июля по 16 июля 2014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7320">
                <a:tc>
                  <a:txBody>
                    <a:bodyPr lIns="0" rIns="0" tIns="140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замены ЕГЭ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ополнитель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14040" bIns="0" anchor="t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 поздне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тре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календарных дней после проведения соответствующего экзамен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378000"/>
            <a:ext cx="70200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ечень обязательных необходимых документов для оплат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619280"/>
            <a:ext cx="828036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СЕРОКОП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Паспорт гражданина РФ — основной разворот+пропис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ИН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СНИЛ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ксерокопия внешней стороны банковской карты «АК БАРС банк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НАЛИЧ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окумент, подтверждающий звание «Кандидат наук» - ксерокопия удостове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окумент, подтверждающий экспертную высшую или первую категори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ЯЗАТЕЛЬНО ДЛЯ ВСЕХ:  фото 3x4 для пропу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940360" y="5040360"/>
            <a:ext cx="293544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0920" y="2708280"/>
            <a:ext cx="2808360" cy="157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ал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ege.edu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rustes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1989000"/>
            <a:ext cx="373392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йт республиканского центра мониторинга 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rcmk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4581360"/>
            <a:ext cx="4103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едеральный институт педагогических измерений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tp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fipi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4653000"/>
            <a:ext cx="38102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йт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/mon.tata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625840" y="1484280"/>
            <a:ext cx="868320" cy="111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557360"/>
            <a:ext cx="380880" cy="274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90560" y="1557360"/>
            <a:ext cx="506520" cy="274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1484280"/>
            <a:ext cx="761760" cy="44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335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27000" algn="ctr">
              <a:lnSpc>
                <a:spcPct val="100000"/>
              </a:lnSpc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ацион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38080" indent="-27000" algn="ctr">
              <a:lnSpc>
                <a:spcPct val="100000"/>
              </a:lnSpc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едения ЕГЭ и ЕР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333360"/>
            <a:ext cx="7632720" cy="54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актная информ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ГБУ «Республиканский центр мониторинга качества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рек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хнов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Казань, Кировский район, ул. Боевая, 13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/факс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(843) 223-09-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чальник отдела методического обеспеч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нашева Юлия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ые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rcmko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айт ГБУ «РЦМКО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cmkoege@gmail.c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лектронная поч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916280"/>
            <a:ext cx="82296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Arial Unicode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1b5ee5"/>
                </a:solidFill>
                <a:latin typeface="Times New Roman"/>
                <a:ea typeface="Arial Unicode MS"/>
              </a:rPr>
              <a:t>Документы, определяющие </a:t>
            </a:r>
            <a:br>
              <a:rPr sz="2800"/>
            </a:br>
            <a:r>
              <a:rPr b="1" lang="ru-RU" sz="2800" spc="-1" strike="noStrike">
                <a:solidFill>
                  <a:srgbClr val="1b5ee5"/>
                </a:solidFill>
                <a:latin typeface="Times New Roman"/>
                <a:ea typeface="Arial Unicode MS"/>
              </a:rPr>
              <a:t>деятельность предметной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риказ Министерства образования и науки РФ от 26.12.2013 года № 14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оложение о деятельности предметных комиссий РФ от 12.03.2014 г.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Приказ  МОиН РТ № 1275/14 от 14.03.201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40000" y="360360"/>
            <a:ext cx="431964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предметной коми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9640" y="1440000"/>
            <a:ext cx="308772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едатель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2519280"/>
            <a:ext cx="3419280" cy="720720"/>
          </a:xfrm>
          <a:prstGeom prst="roundRect">
            <a:avLst>
              <a:gd name="adj" fmla="val 44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председателя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0360" y="3421080"/>
            <a:ext cx="1979640" cy="107964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00360" y="5040360"/>
            <a:ext cx="1979640" cy="107928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040360"/>
            <a:ext cx="1979640" cy="107928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80000" y="3419640"/>
            <a:ext cx="1979640" cy="1079280"/>
          </a:xfrm>
          <a:prstGeom prst="roundRect">
            <a:avLst>
              <a:gd name="adj" fmla="val 14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ер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ж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87" idx="2"/>
            <a:endCxn id="88" idx="0"/>
          </p:cNvCxnSpPr>
          <p:nvPr/>
        </p:nvCxnSpPr>
        <p:spPr>
          <a:xfrm flipV="1" rot="10800000">
            <a:off x="4422600" y="1080720"/>
            <a:ext cx="76680" cy="35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5" name=""/>
          <p:cNvCxnSpPr>
            <a:stCxn id="88" idx="2"/>
            <a:endCxn id="89" idx="0"/>
          </p:cNvCxnSpPr>
          <p:nvPr/>
        </p:nvCxnSpPr>
        <p:spPr>
          <a:xfrm flipV="1" rot="10800000">
            <a:off x="4409280" y="2160720"/>
            <a:ext cx="13320" cy="35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6" name=""/>
          <p:cNvCxnSpPr>
            <a:stCxn id="89" idx="1"/>
            <a:endCxn id="90" idx="0"/>
          </p:cNvCxnSpPr>
          <p:nvPr/>
        </p:nvCxnSpPr>
        <p:spPr>
          <a:xfrm flipV="1" rot="10800000">
            <a:off x="1348560" y="2879280"/>
            <a:ext cx="135036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7" name=""/>
          <p:cNvCxnSpPr>
            <a:stCxn id="89" idx="2"/>
            <a:endCxn id="91" idx="0"/>
          </p:cNvCxnSpPr>
          <p:nvPr/>
        </p:nvCxnSpPr>
        <p:spPr>
          <a:xfrm flipV="1" rot="10800000">
            <a:off x="2788560" y="3239640"/>
            <a:ext cx="1620000" cy="180108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8" name=""/>
          <p:cNvCxnSpPr>
            <a:stCxn id="89" idx="2"/>
            <a:endCxn id="92" idx="0"/>
          </p:cNvCxnSpPr>
          <p:nvPr/>
        </p:nvCxnSpPr>
        <p:spPr>
          <a:xfrm>
            <a:off x="4409640" y="3239640"/>
            <a:ext cx="1801080" cy="180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99" name=""/>
          <p:cNvCxnSpPr>
            <a:stCxn id="89" idx="3"/>
            <a:endCxn id="93" idx="0"/>
          </p:cNvCxnSpPr>
          <p:nvPr/>
        </p:nvCxnSpPr>
        <p:spPr>
          <a:xfrm>
            <a:off x="6119280" y="2879640"/>
            <a:ext cx="1351800" cy="54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00" name=""/>
          <p:cNvSpPr/>
          <p:nvPr/>
        </p:nvSpPr>
        <p:spPr>
          <a:xfrm>
            <a:off x="6840360" y="1260360"/>
            <a:ext cx="1938600" cy="10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ретарь П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88" idx="3"/>
            <a:endCxn id="100" idx="2"/>
          </p:cNvCxnSpPr>
          <p:nvPr/>
        </p:nvCxnSpPr>
        <p:spPr>
          <a:xfrm flipV="1">
            <a:off x="5967000" y="1785600"/>
            <a:ext cx="873720" cy="1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102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0"/>
            <a:ext cx="74880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Times New Roman"/>
                <a:ea typeface="Arial Unicode MS"/>
              </a:rPr>
              <a:t>Работа предметных комиссий в 2013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1050840"/>
          <a:ext cx="8229600" cy="5633640"/>
        </p:xfrm>
        <a:graphic>
          <a:graphicData uri="http://schemas.openxmlformats.org/drawingml/2006/table">
            <a:tbl>
              <a:tblPr/>
              <a:tblGrid>
                <a:gridCol w="431640"/>
                <a:gridCol w="2860920"/>
                <a:gridCol w="1644480"/>
                <a:gridCol w="1646280"/>
                <a:gridCol w="1646280"/>
              </a:tblGrid>
              <a:tr h="798120"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Предм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Количество экспер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Проверено раб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в 2013 г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Третья проверка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0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,4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Математ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0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,7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Физи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,9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,0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52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Информатика и 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,7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Би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2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,7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6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,4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Общество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,7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е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9,5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нглий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0,4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488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емец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,8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24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Француз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560">
                <a:tc>
                  <a:txBody>
                    <a:bodyPr lIns="90000" rIns="90000" tIns="608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Испан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586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Количественный состав экспертов ПК ЕГЭ 201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484360" y="907920"/>
          <a:ext cx="4248360" cy="5391000"/>
        </p:xfrm>
        <a:graphic>
          <a:graphicData uri="http://schemas.openxmlformats.org/drawingml/2006/table">
            <a:tbl>
              <a:tblPr/>
              <a:tblGrid>
                <a:gridCol w="363600"/>
                <a:gridCol w="1852560"/>
                <a:gridCol w="2032200"/>
              </a:tblGrid>
              <a:tr h="45756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количество экспер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576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576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тор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ец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47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ствозн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ан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\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5"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тарский язы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5"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\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0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\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332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\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6480" rIns="6480" tIns="34200" bIns="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2716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подготовки экспертов ПК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ессии ЕГЭ в 2014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2960" y="1617840"/>
            <a:ext cx="2987640" cy="103788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960" y="1706400"/>
            <a:ext cx="28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ПК «Повышение роли экспертного сообще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0-21 ноября 2013 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01960" y="3003480"/>
            <a:ext cx="3384720" cy="1460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8400" y="2997360"/>
            <a:ext cx="3113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истанционное обучение экспертов ПК на базе платформы ФГБУ «ФИПИ» «Эксперт ЕГЭ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т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941720"/>
            <a:ext cx="3058920" cy="10368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45160" y="5167440"/>
            <a:ext cx="288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учающие семинары П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4-28 марта 2014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2600" y="12207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I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25876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5480" y="45338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I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9760" y="265572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330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67160" y="446400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581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участ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24440" y="5978520"/>
            <a:ext cx="24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593</a:t>
            </a:r>
            <a:r>
              <a:rPr b="1" i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учас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Межрегиональный обмен опыто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9640" y="1197000"/>
          <a:ext cx="8229600" cy="1436760"/>
        </p:xfrm>
        <a:graphic>
          <a:graphicData uri="http://schemas.openxmlformats.org/drawingml/2006/table">
            <a:tbl>
              <a:tblPr/>
              <a:tblGrid>
                <a:gridCol w="2592360"/>
                <a:gridCol w="5637240"/>
              </a:tblGrid>
              <a:tr h="375120">
                <a:tc>
                  <a:txBody>
                    <a:bodyPr lIns="90000" rIns="90000" tIns="9324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324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1640">
                <a:tc>
                  <a:txBody>
                    <a:bodyPr lIns="90000" rIns="90000" tIns="8784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ГЭ-компания 2013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  <a:tc>
                  <a:txBody>
                    <a:bodyPr lIns="90000" rIns="90000" tIns="87840" anchor="t">
                      <a:noAutofit/>
                    </a:bodyPr>
                    <a:p>
                      <a:pPr marL="282600" indent="-282600" algn="just">
                        <a:lnSpc>
                          <a:spcPct val="86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астие в ФП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6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рестная проверка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6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ерка работ участников зарубежных образовательных организац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88000" y="4275000"/>
            <a:ext cx="3625920" cy="2040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359160" cy="1890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23652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Участие в апробациях 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по проведению </a:t>
            </a:r>
            <a:br>
              <a:rPr sz="2200"/>
            </a:br>
            <a:r>
              <a:rPr b="1" lang="ru-RU" sz="22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тренировочных экзаменов в формате ЕГ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2168640"/>
        </p:xfrm>
        <a:graphic>
          <a:graphicData uri="http://schemas.openxmlformats.org/drawingml/2006/table">
            <a:tbl>
              <a:tblPr/>
              <a:tblGrid>
                <a:gridCol w="2592360"/>
                <a:gridCol w="5637240"/>
              </a:tblGrid>
              <a:tr h="371520">
                <a:tc>
                  <a:txBody>
                    <a:bodyPr lIns="90000" rIns="90000" tIns="81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81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й год 2013-2014 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  <a:tc>
                  <a:txBody>
                    <a:bodyPr lIns="90000" rIns="90000" tIns="81000" anchor="t">
                      <a:noAutofit/>
                    </a:bodyPr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ЕГЭ по английскому языку с апробацией устной части экзаме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ЕГЭ по информатике и ИКТ в компьютерной форме (КЕГЭ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ЕГЭ по русскому языку и математи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 algn="just">
                        <a:lnSpc>
                          <a:spcPct val="87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экзамены в формате ОГЭ по русскому языку и математи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bbb59">
                        <a:alpha val="-13468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2057400" cy="1324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478560" y="4149720"/>
            <a:ext cx="2232000" cy="145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538440" y="4149720"/>
            <a:ext cx="2125800" cy="1434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95280" y="-15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НПК «Повышение роли 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экспертного сообщества»</a:t>
            </a:r>
            <a:br>
              <a:rPr sz="2600"/>
            </a:br>
            <a:r>
              <a:rPr b="1" lang="ru-RU" sz="2600" spc="-1" strike="noStrike">
                <a:solidFill>
                  <a:srgbClr val="0000ff"/>
                </a:solidFill>
                <a:latin typeface="Times New Roman"/>
                <a:ea typeface="Arial Unicode MS"/>
              </a:rPr>
              <a:t>20-21 ноября 2013 г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81772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9640" y="1546200"/>
            <a:ext cx="269568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059280" y="2217600"/>
            <a:ext cx="3031920" cy="1706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916360" y="4851360"/>
            <a:ext cx="3720960" cy="1876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588000" y="6524640"/>
            <a:ext cx="2305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Arial"/>
              </a:rPr>
              <a:t>ГБУ «РЦМКО»  КАЗАНЬ 2014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32:01Z</dcterms:created>
  <dc:creator>Пользователь Windows</dc:creator>
  <dc:description/>
  <dc:language>en-US</dc:language>
  <cp:lastModifiedBy>Юлияг</cp:lastModifiedBy>
  <cp:lastPrinted>2014-04-21T11:59:54Z</cp:lastPrinted>
  <dcterms:modified xsi:type="dcterms:W3CDTF">2014-05-14T07:04:14Z</dcterms:modified>
  <cp:revision>75</cp:revision>
  <dc:subject/>
  <dc:title>Заголовок твой презентации</dc:title>
</cp:coreProperties>
</file>